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6.xml.rels" ContentType="application/vnd.openxmlformats-package.relationships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DF3A-EA7E-40A9-BE8F-C59267A5DD2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15840" y="685800"/>
            <a:ext cx="5021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15840" y="685800"/>
            <a:ext cx="50230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128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4DA-D68B-463F-A3D0-4EB8FCD7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085-2210-4713-9577-251C0BB9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C8F-B5B3-4368-A7ED-FFEA4E67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377-25A2-417B-BA9F-547295B1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E543-179E-43DB-909D-FA0968CD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74DD-C81C-4440-8C00-B26FAD82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C02D-A592-4B23-94E1-32BE350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33BC-DE67-41BF-A213-11EAC950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6A3C-F5A4-406D-A9F7-4476D509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BCCC-19CA-4106-B3B9-382D6E79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8CB-816E-49FC-9AC3-DCEA9D6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F1E-F1A3-4A5B-97A2-61460E27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D92E-F371-4537-A490-C676DEBF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E8CD-EFF2-464D-9A0F-92E42AD3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6CAF-846D-44EF-BAD1-33B2E630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8002-CB40-4486-8B47-253EB092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9176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04600" y="3068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7928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9176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04600" y="430272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891E-681E-4D07-A9A9-D576CA29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181-B026-4BAE-8F74-A6FD7848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B11-E54B-4614-80AD-16A6F32E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2E53-618A-4601-86C1-2A163341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360" y="47592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7E1-AB67-46AA-8463-A55E532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52D-0615-4541-A086-212D0A95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81480" y="430272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369-BFAC-4CEB-9A0B-41E67F5E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792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81480" y="3068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79280" y="430272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C69-9A1F-4257-A590-75CCA20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BF5C-8AA5-48E5-8DE7-BCEB9C480BA6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E6B-ECA8-4B20-AE5E-722948FDF1E0}" type="slidenum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Status of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mbedded Linux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&amp; CELF Plenary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7640" y="422100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y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 Linux Forum Architecture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atchlist detail - 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F contracting with free-electrons (Michael Opdenacker - current Linux-tiny maintain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patches being mainlined by Thomas Petazz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http://elinux.org/Linux_Tiny_Patch_Det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page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de 2.6.25 merge window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F funded this work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loatwatch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t Mackall just released Bloatwatch 2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ol to show kernel size regression (and to investigate size problem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pagem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how details about every allocated (and virtual) page on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es PSS and USS size metr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S = Proportional S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S = Unique Set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C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elenic.com/repo/pagemap/raw-file/tip/memory-profiling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WN.net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lwn.net/Articles/230975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164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ization to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671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elenic.com/repo/pagem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atchlist detail - 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quash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ressed read-only file system, with smaller compression than Cram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test release is 3.3, released Feb 5,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mainlin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 attempt was several years a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ilip Lougher was planning to do it on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niversary of project, but injured his h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assistance you can give to Philip is appreciat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X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vanced XIP fil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n profile applications, and only use XIP on some bloc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for fine-grained control over how much flash vs. RAM is used for an application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 mainline attempt was summer,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red said at ELC Europe (Nov, 2007) that he might try another mainline attempt so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og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flash filesystem to solve scalability problems with JFFS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hor is Jörn Eng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gFS keeps filesystem meta-data on flash instead of in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es not need to read lots of meta-data on mo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reduces mount time (and system boot ti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ut, it has some outstanding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Jörn's presen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ogFS -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e Jörn's t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t mainl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is prog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ce mid January LogFS does write-back caching of metadata, for a big performance bo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F is paying for work on the file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BIFS -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system build on UBI (flash block) instead of block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ly submitted for mainline inclusion by Nok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2760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linux-mtd.infradead.org/doc/ubifs_whitepaper.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atchlist detail - 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TTng (and Mark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Function Trace (KF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intk-time arch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TT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TTng Sta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rkers infrastructure mainlined in 2.6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xt to mainline is actual LTTng 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Highl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Technology Watch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n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r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frastructure in kernel for static instru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probes are for dynamic instr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al is very low overhead when not in u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compare, using immediate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o memory access or cache/TLB usage iss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's a new system to replace immediate values in kernel code, while kernel is running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ther Tracers and instrum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ce system, but compilation step was not cross-compile a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eo Solutions demonstrated support for cross-execution 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work needed for other platforms (e.g. Kprobes for M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Kernel Function Tr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ent releases were broken on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F hired new maintainer - Nicholas McG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maintainer reports successful trace on MX31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rationalize with System 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rintk-times arch sup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platforms have bad timer resolution for printk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F have fixes they should mai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atchlist detail - 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moyo 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SM framework removed from kernel in 2.6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some impact on non-mainlined security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pp Arm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SM framework removed from kernel in 2.6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pArmour group was let go from Nov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http://www.news.com/8301-13580_3-9796140-39.ht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mack included in 2.6.25 ker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atchlist detail - 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bedded SE 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ch progress rec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e talks by Nakamura and Koh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quires filesytem with xatt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bedded configuration in as little as 700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atchlist detail - 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ower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ws timers and power state d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support for CPUIdle, in order to show C-state (power state) activity for non-Intel process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M Q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rged in 2.6.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lfson voltage regulator stu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chlist - Real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-preem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timers was mainlined in 2.6.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ill working on ports to various platfor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aining large pieces to main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readed interrup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leeping spinlock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tency trac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cy tracer is actively being pushed to mai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has worked on publishing porting and test results, and documenting tuning and testing "best practice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atchlist detail - Miscellaneo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HOWTO document trans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inese, Korean and Japanese translations are mainl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bdl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s all profiles except MPEG-4 and WM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chlist upd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recover status into watchlist page after elinux.org web site cr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be done in a few wee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is to provide continuously updated information on key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itional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 a few items CELF members are working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ff not on official watch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ed by technology a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bootc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shiba work - See Jamboree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6.24 highl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ing in 2.6.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esting patches on the horiz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UB vs. SLAB vs. SLO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SLUB and SLOB have recently received some up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B is now the default memory allocator for the 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t people aren't entirely happy with 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OB vs. SLAB size compari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x86, 128M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OB yields 180K more runtime memory than SLA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RM 32M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OB yields 150K more runtime memory than SLA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till a big desire to see SLOB results and usage experi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cens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ise over GPL 3.0 has died dow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ernel will stay GPL 2.x for n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ibc 2.6.1 Release no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2.6 and 2.6.1 releases of the GNU C Library are licensed under the LGPL version 2.1, and GPL version 2.1 for the non-library programs included, or any later version. …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 expect that the next non-bug-fix release of the C Library will migrate to a newer LGPL vers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90000"/>
              </a:lnSpc>
              <a:spcBef>
                <a:spcPts val="6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e http://sourceware.org/ml/libc-announce/2007/msg00001.htm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interested in GstOpenM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Max is a graphics framework API promoted by Khronos (with several large CE companies as memb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stOpenMax is an open source implementation of OpenMax on top of GT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ddle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L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hosted the first ever open source DLNA summit, in Linz Aust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has donated several DLNA specifications to open source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dlna-dev mailing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rocess of obtaining sample hardware for various DLNA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LNA summit #2 planned for ELC-Europe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Phone stack wa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'ed and presented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b 4 - announced their Linux pla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LIMO press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.limofoundation.org/press-releases/limo-press-releases/limo-rolls-out-world-s-first-globally-competitive-linux-based-software-platform-for-mobile-devices.ht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ARM Ultra-Mobile PC initiati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http://www.linuxworld.com/news/2007/100407-montavista-arm-linux-umpc.html?nlhtos=100507linuxalert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tus 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uxDevice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linuxdevices.com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WN.net kernel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lwn.net/Kerne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icles sorted by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lwn.net/Kernel/Index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ux Weather Forec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linux-foundation.org/en/Linux_Weather_Forec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Technology Watch List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linux.org/Technology_Watch_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ome CELF Inform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 Linux For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1989000"/>
            <a:ext cx="6335640" cy="2808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 Linux Forum (C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ocused on the advancemen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as an open sourc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nsumer electronics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ne 23, 20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er: Panasonic, So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board memb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tachi, Toshiba, Sharp, Philips, Samsung, NEC, IB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50 member companies,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LF Basic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1916280"/>
            <a:ext cx="3600720" cy="86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19640" y="2421000"/>
            <a:ext cx="360036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284640"/>
            <a:ext cx="3600720" cy="86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5440" y="4365720"/>
            <a:ext cx="3600360" cy="86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Work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5440" y="5516640"/>
            <a:ext cx="3600360" cy="86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Work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2565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41497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950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8920" y="479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66"/>
                </a:solidFill>
                <a:latin typeface="Arial"/>
              </a:rPr>
              <a:t>2.6.24 Kernel highlight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rnel ma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TTng may be coming soon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urity modules framework was remo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M Quality of Service (QO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66680" y="1905120"/>
          <a:ext cx="6554880" cy="34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55488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bership by Geograph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6096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bership by Indust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ical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Work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ical out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Source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ELF Technical Working Group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kgrou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, Video,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gital 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udio, Video, 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sion: Help develop and enhance standard AVG layers for different pro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V, handheld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ious 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of DirectFB and UH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NOME Mobile and Embedded laun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FB porting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 Tech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sion: Reduce boot up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FS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 pre-l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gital Television Profi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sion: Help identify problem areas for DTV products, and fill g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LNA open source project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LNA community develope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t DLNA specifications to community project lead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ting the DLNA summit (2)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mory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sion: Improve memory management systems of Linux, for embedde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 Proje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A for smal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ressed cache e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mmetric nodes, variable page si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UB/SLOB scalability and node affinity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for power-management control of memory ex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sion:  Help reduce power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ious 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ct work to produce and mainline Power Management framework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hosted BOFs and a PM Sum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M Quality-of-servic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ing in 2.6.2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are a few things that made the merge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page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 Mackall's patches for fine-grained memory instr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on this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ncy measurement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for Latency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 http://lwn.net/Articles/26615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ck - simple mandatory access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see if it can makes sense to use in 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sion: Enhance Real Time performance of 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ent 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T-preempt patch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Realtime testing best practices"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sion: Enhance security for embedded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donation to Linux security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member wor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ELinux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sion: Reduce memory uti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-wide memory prof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ux-tiny re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atwatch 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tract Wor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ractor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Mack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 Loc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 Trayn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hael Opdenac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cholas McGu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n Eng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ferenc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ferences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Conference (EL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tawa Linux Symposium (O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onal Jambo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C-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trade sh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Linux Confe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d April each year in San Jose,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 audience is embedded Linux develo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open, community-oriented con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 trade sh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conference with a focus on on embedded Lin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year is our fourth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tawa Linux Sympos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year, CELF is a sponsor of the sympos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members gave several presentations and BO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 out prizes, do demo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is to interact with other (non-embedded developers) and show them our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gional Jambo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ual, one-day, one-track conferences held in regional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Regional Jambo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d every other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ations and discussion in native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is translated to English, after the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Jamboree #20 wil be held next we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have great technical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elinux.org/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esting pat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are a few things that appear to be co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ncy trac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iler instrumentation of kernel functions (gcc -mcou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for multiple trac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en Rostedt's isolation and generalization of RT-preempts latency-trac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_notif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processes to avoid the OOM killer by responding to events and shrinking memory usage voluntar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 http://lwn.net/Articles/266361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C Euro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ned for November 6,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de, The Netherla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t conference with NLU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for sessions is already 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bag for a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echnical Outpu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ew of technical outp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s and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cuments on Public w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00000" y="1719360"/>
          <a:ext cx="7786800" cy="4682880"/>
        </p:xfrm>
        <a:graphic>
          <a:graphicData uri="http://schemas.openxmlformats.org/drawingml/2006/table">
            <a:tbl>
              <a:tblPr/>
              <a:tblGrid>
                <a:gridCol w="3240360"/>
                <a:gridCol w="1726920"/>
                <a:gridCol w="281952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r updated this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ki p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 fi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arch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fi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al is always to push patches upstr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LF doesn't submit patches itself (except via its contracto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 no-sync p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age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courage CELF members to submit directly to mainline proje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TTng, Kprobes and System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-preemp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Management Quality-of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ar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pecial Projec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cial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ware do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Embedded Linux Wik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4800" indent="0" algn="r">
              <a:spcBef>
                <a:spcPts val="11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4500" spc="-1" strike="noStrike">
                <a:solidFill>
                  <a:srgbClr val="000000"/>
                </a:solidFill>
                <a:latin typeface="Arial"/>
              </a:rPr>
              <a:t>http://elinux.org/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t looks li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elinux.org Is (and is no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new resource for the whole embedded Linux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stly technical documents and information, accumulated over 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 a CELF-only 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just for CE companies or for CELF me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 an encyclo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inux.org and Wikipedia are compliment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 a news 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Technology Watchlist Review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ite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bout 490 pages with real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~540 uploaded f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~350 registered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~3400 page ed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85,000 page 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cc0000"/>
                </a:solidFill>
                <a:latin typeface="Arial"/>
              </a:rPr>
              <a:t>Currently showing a backup of content from Febru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ontent highligh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oot time re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ory re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sor 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specific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wer managemen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rdware ha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ool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ts running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anies involved with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dors, Semi-conductor, CE Product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ardware Don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tecture Group donates hardware to community develo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1: Mobile phone to power management develo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2: Nokia tablet to security analysis tool auth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ing on a bunch of hardware for DLNA develo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 Source edu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te papers, articles and talks about why and how to participate in the Linux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osing Rema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as nice to see you all this y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up the good 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3213000"/>
            <a:ext cx="7201080" cy="172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ux is destined to domin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mbedded mark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537372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's have fun doing i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ank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Questions and Answer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7928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chnology Watch 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 Linux Forum maintains a list of technologies that we are "watching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ngs we are interested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nd of like the Kernel Weather Forecast, but with focus on embed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st is reported on and updated at CELF meet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page is on elinux wik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elinux.org/Technology_Watch_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re deprecating the CELF wiki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Arial"/>
              </a:rPr>
              <a:t>Page is out-of-date today, due to web site cr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atchlist re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x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page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TT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ystemT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trac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intk-times arch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p Arm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moyo Lin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wer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M Q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rspace 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ernel HOWTO document trans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bdl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1:32:36Z</dcterms:created>
  <dc:creator>Satoru Ueda</dc:creator>
  <dc:description/>
  <dc:language>en-US</dc:language>
  <cp:lastModifiedBy>PLanning</cp:lastModifiedBy>
  <dcterms:modified xsi:type="dcterms:W3CDTF">2008-04-24T20:40:54Z</dcterms:modified>
  <cp:revision>26</cp:revision>
  <dc:subject/>
  <dc:title>スライド 1</dc:title>
</cp:coreProperties>
</file>